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5DA-3ACC-48D1-918A-A2408D5D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A96-AC25-471F-94B3-2016A0E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F2E-1E2A-44D7-AB8D-556BEA4E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1A0-73DB-458E-8F55-DA37A8C1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E312-3168-4169-AB46-5FA04F25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79DD-50BD-4116-938B-CB5376BD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780D-C59A-4322-A528-2EB6D86B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227-9CB5-4430-B265-3878321A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587F-B489-432A-95FE-1933372F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0CFE-DC97-4B59-9631-11BDFCFA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4AE9-09B1-43C4-A8BC-CE3160F7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788-DD22-44E8-B20D-6F818F1E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4873-DB1B-489D-B42E-4BBA340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3687-FB59-448C-89A4-5A1826B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2C4B-594E-4649-9A95-3D4DF217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30C1-CA88-4B68-A7C6-5E005E2C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9D02-845D-49D8-8C5A-8D56D02E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5EC8-DFA0-4B61-9A6D-8DAC699D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CDC5-D678-40DA-904F-6A4D6346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E249-2D08-4BA8-BE3A-5066CCF7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3E64-B6FE-4D28-9AC1-6989747D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76DD-1BFB-472A-B9BE-9A752DC2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AF4-84EB-4523-9302-19E646D2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F162-65F9-4C78-B93E-3BF2A4E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E321D-17CD-4D11-A19A-1DF5AB0C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860A-4756-4AC6-B1F0-3D72451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CC7E-7100-4DD3-9065-F97C2D35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F998-DA0F-41BF-B8AF-689D0272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09FE-33AC-4F97-80FF-5EC402C3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20DA-E13C-4C3B-9EF3-49896913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006A-214E-4CC2-8484-C7841E5B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3039-8453-4C32-AA19-A9556A80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2BA9-0C98-483C-932A-712E5E1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21B-D478-4AAA-B9A3-B00AD68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2E66-4DAE-4CDA-96BD-E70ABE4E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08A8-756F-405F-9F35-79B9738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D64EA-44A2-4C39-9440-4C42322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9D40-B7A8-4BB6-87B1-3E623E2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7889D-7A5A-4265-AE1E-2CD09CD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914B-D2B7-4C28-9154-43D3BAE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2090-5010-48F6-94E2-1C543198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A41D9-1B19-4098-AC30-CAD88659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90F6-B508-494C-B9BF-571E24F5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C31-CF93-4CB0-997F-53383A93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634-577E-4628-B24C-0D29141D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176-5DB9-4C92-90B0-65A3912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B4B-5F48-48AF-BF66-8D58EA8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BE8-C5DF-4915-B5E5-E4A6FCE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4FCD-99F9-406F-BAAD-C4008F48EB4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EB9-FF8B-481B-86DF-2E91F2C7D42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D6FA-FC20-4D33-AB86-7227B41CDAA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B762-C017-4526-BA16-C4A75D5CD7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822240" y="1663560"/>
            <a:ext cx="7188120" cy="1981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71760" y="285768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единиц времен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57760" y="428616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сеньева Елена Никола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банева Татьяна Юрьев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Гимназия № 24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февраля 202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179280" y="765000"/>
          <a:ext cx="8785440" cy="399132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 ч 15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2751120" y="1644480"/>
            <a:ext cx="3641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2"/>
          <p:cNvSpPr/>
          <p:nvPr/>
        </p:nvSpPr>
        <p:spPr>
          <a:xfrm>
            <a:off x="250920" y="836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"/>
          <p:cNvPicPr/>
          <p:nvPr/>
        </p:nvPicPr>
        <p:blipFill>
          <a:blip r:embed="rId1"/>
          <a:stretch/>
        </p:blipFill>
        <p:spPr>
          <a:xfrm>
            <a:off x="641520" y="1663560"/>
            <a:ext cx="8137440" cy="183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611280" y="404640"/>
            <a:ext cx="79963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Лидово в Кузьминки можно проехать на автобусе с пересадкой в Марьино или в Сергеевке. Время движения автобуса между этими посёлками указано на схеме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641520" y="386064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путь надо выбрать, чтобы успеть на поезд, отправляющийся из Кузьминок в 13 ч 15 мин, если известно, что автобусы отправляются из Лидово в 10 ч, при этом в Марьино приходится ждать автобуса 5 мин, а в Сергеевке – 15 мин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79280" y="765000"/>
          <a:ext cx="8785440" cy="383256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7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Рисунок 8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25365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Прямоугольник 3"/>
          <p:cNvSpPr/>
          <p:nvPr/>
        </p:nvSpPr>
        <p:spPr>
          <a:xfrm>
            <a:off x="3776760" y="3933720"/>
            <a:ext cx="2520720" cy="57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b01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7791120" cy="30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79280" y="765000"/>
          <a:ext cx="8785440" cy="3961080"/>
        </p:xfrm>
        <a:graphic>
          <a:graphicData uri="http://schemas.openxmlformats.org/drawingml/2006/table">
            <a:tbl>
              <a:tblPr/>
              <a:tblGrid>
                <a:gridCol w="1224000"/>
                <a:gridCol w="1656000"/>
                <a:gridCol w="40320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собы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48 мин + 5 мин + 1 ч 15 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8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у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ч 25 мин + 15 мин + 1 ч 35м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 ч 1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7:19Z</dcterms:created>
  <dc:creator>User1</dc:creator>
  <dc:description/>
  <dc:language>en-US</dc:language>
  <cp:lastModifiedBy>USER2</cp:lastModifiedBy>
  <cp:lastPrinted>2014-02-18T18:03:24Z</cp:lastPrinted>
  <dcterms:modified xsi:type="dcterms:W3CDTF">2023-02-21T12:23:39Z</dcterms:modified>
  <cp:revision>54</cp:revision>
  <dc:subject/>
  <dc:title>Для чего нужна  экономика?</dc:title>
</cp:coreProperties>
</file>