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E2C4-8E58-4127-8E35-22E588378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7C4E-52ED-424A-B5B0-AC2998F9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F923B2-F909-4BA6-9432-70F70907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2B7A3B-5CDD-477D-A30F-39D9BB07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1A4EA9-8B9C-4C05-A394-38E04127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F7B504-8DD3-4CCE-BEC2-0227E282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3C06FF-3343-4595-AFD0-73C6312E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18AAEA-829E-4D7C-A893-309F16D3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62ED40-4886-42B0-AE6C-C473E7C4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5DCA04-94CC-43E9-BFC6-21A92F203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64CB92-2D72-4FFA-BFD2-9D3AA000C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FD389C-EA42-49AE-A22A-1AA8B94A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77EA-2322-4D65-A1C6-128F27A08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108E6A-5615-44B7-A364-EFBD516A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C0A429-41D0-4F36-A713-FD7A9650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9E7F36-1FCF-4A32-82DB-EF791030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C621DF-CF70-47CE-9138-7E557F10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B381F9-5D20-49B9-83FA-3A439CCD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9870F9-8164-4346-A876-CEA51E45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048E26-C3A8-48D7-ACF6-E123A19A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8DFDF2-EC8B-4B6D-8AD8-B2DF7775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39E50C-3FC4-4D3D-967B-BC425E29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2E89DE-6007-429A-94FF-6499EF8B3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8C00-19A8-4ED1-B1F2-94F8AF0ED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01C5AF-E88A-4209-A67B-F4043E484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75BDC-CD34-486A-B98F-65B441106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5BE93-7513-4BCD-B4E6-47F4C5E9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FD955-5BD6-445E-B354-3BD90790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BA203-61B3-4FCB-9609-D7AED63D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96E7B-674A-4DB2-B2BE-6873FDCD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7D167-7308-4241-A455-CCCD8513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D1D21-7933-42E2-9971-4AEA3248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B7C15-A23A-4290-A5F7-50F619B6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C71C9-3AC4-4CA2-B5E8-9D1AD51A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0427-CBB4-452F-B96C-C99655C1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2A4C71-0C4E-4165-8CDA-A41F8CE9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CCF8D-2E16-4482-99DF-AE646A2DF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F1D18-D74A-411A-B66B-676AF4081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A0D404-AB21-4EF0-BCE0-0B3FAB663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56C2BB-53FB-4CBE-B682-15290BA8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513994-250B-4565-8315-52859A4E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3818AA-4C31-4F28-8ABB-20EB6DE7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A62241-B711-412D-9529-65AB3C5F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9B516E-F425-437B-BA66-2C538D20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547EC6-8697-4E02-B3E4-0F157EE5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5B79-9A82-4D37-9E94-38061432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744E01-5CA5-41EF-8526-FD8DB0E7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0D6276-CA37-420D-8652-C38F305B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544920-0CAC-4D9D-AE09-1DA5A6E3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DF5268-3D02-4AFE-90C0-E9AE7DFE8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B7510B-AA5E-4436-AC37-9B80493B1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D77F-90E2-4F18-8FEF-254D3A3C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6DD6-4DD5-4AE0-9B6A-DCFF6A81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00F7-4B34-428A-AE97-AD908807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84B2-E7A1-49F8-ACC5-26BEAAEE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EC71-BBB3-44FC-A276-A1DFF397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8BC9-706E-4724-AA5D-F7F80507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55D7-8DC9-4495-84F6-513BD47B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4D84-7BEB-4C79-AB26-EBF4B05A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1A1B-E73F-4F86-B2BE-0C7C0797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6965-C475-4AF0-A5E1-5B643CC8E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7D31-5BBC-4357-A80C-0B9521FAB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8DAA0-2CED-4E1A-9B82-72FDED7A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8D29D-C216-4948-A499-95FA2F18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AFD70-9438-401B-9D19-D3720A71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9E666-42F5-48C8-BCC2-8FE9FEB6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F52E3-5AB5-491D-93D2-DD8BC698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E762-E9FC-4416-AAB1-8F183FD4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23B86-7F78-488E-9C68-30E299DA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A3A9C-D3D8-4A15-87FB-9D857BDA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0E016-D272-4F78-847C-5374317F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33716-7A8A-44C8-AE82-06DE36C7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5488A-7B27-47AD-B444-6A04B0A6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86565-FBB3-4350-A917-B3FC73890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BBC1D-5BBF-44B0-B71D-F4903F527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220CB-F318-48D4-8E26-93CA33D22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98AA6-AC39-4B3A-95CF-D45B8EEE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4AB83-FCC8-48FA-968B-5EDD7045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5D9B-2415-4904-B1EA-3946A026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8A7E4-4CB6-4A94-ADB4-00D8D15E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56400-86F7-40A4-9E87-3781ACBA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44AA4-3C50-4168-AC56-7B489F15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4C407-DD6C-4FF3-B45C-DECE0297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E69C1-2F60-423A-81AA-88C49878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6864B-0418-4678-AFC5-217ED571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2BEBB-298F-4564-856A-60D3D2FB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03A4C-6839-4284-947F-C520A0841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B88DF-9E7F-4837-86CE-0386DF9B6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C1F8F-189E-4F06-9D8B-B9D6F9460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BEB7-D5E4-4160-997B-A323F480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0105C-61F3-43BE-A9B7-4E391618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4AFCA-C1DE-494A-B564-46B19B0C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5073B-DEEC-4833-9E2A-24F490DB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04D52-DDD0-4436-8092-33FF6FD3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779D0-93D5-417C-9555-4A0E2DC0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2F076-3C09-4A1D-9D59-3C0472D4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C313F-FC9B-4B00-BA0D-E944CE94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DAC35-598E-41CE-8B61-99FEA67D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99ADF-799A-4F39-BF01-ADE9B5B0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48280-CE71-413E-8A95-E85BADE48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2E21-2946-44E6-9A18-8B64AC95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1BA6D-C994-4EF3-9D75-2C4D49F83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DDDB6-43B4-4B74-A92E-260A58CEE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FA075-885B-430A-85EA-D03B991E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6FCCD-B9E9-4C79-A323-EFF0B7E7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FB98C-1B1A-4F57-A756-35833EC9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EEA78-395E-47F3-9F9D-6E5DAE49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2C3DB-47B0-4063-9A05-05A5E937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FAD6C-5E90-4312-8B1B-E99DBE75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ED09E-A042-4474-812E-AE3EE86D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F9CB8-6C30-4382-98CE-2BCF882A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37A7-FA6A-4D67-A36C-8D564EC1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02064-9098-4229-B011-19FABA88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AFD6C-5D17-4CC6-B63B-83ED3092B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0F4CD-0629-477D-BB41-CDACC1B5F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77D71-F772-4F89-8BF0-24E90C945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F1CFC-3FCC-439D-A9E3-7A35AFDB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282BA-D87B-41C9-85A2-4B8B1CFD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E947D-3275-4A12-B054-5A1E60F9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EA280-06E6-4FAC-B967-0C82F475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1BF26-49DE-4721-AA25-10E22AE1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41407-D6BB-4291-A65B-2DC58A79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58DE-4637-4BB1-9850-9CCB9A8F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941C4-01A6-49E3-A112-4D9A646A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175D5-9F16-4243-8809-E5A63506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65648-42BF-4DB5-A051-2CB4B476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59497-C0FF-431B-860C-5793D2EFA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FE05B-B602-4237-BFC9-736353F6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55185-8A56-44C1-AA60-988D4D24E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B322E-0515-4695-914E-6D8DF99C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44BAE-6355-4081-8891-2A408C6D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D7996-B879-4E87-861E-CA00C02E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D742E-3E24-417C-9625-6B768322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6830-A948-4C50-9A61-92DCFA4C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60DAB-0E4F-4D70-A696-79414560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F0711-B7E0-4045-9DD7-91F25FAF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3009B-6459-412B-B631-E1C04C0F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A0204-B6E2-46BF-80FB-A41C5DD9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E3DAB-D51C-4209-A3A6-6ADAA034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59671-6A0A-4F9D-B3D6-E67DB0F65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80619-B1B5-4C91-9E39-289B4B786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1D5892-F4C9-4DB3-A43B-C25D3FE4A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50417E-0E77-4D48-BF00-66A59652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C84778-09D8-46BF-BDEA-3C68FC07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3454-54F7-4663-A2CC-3941EFC3BFF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2D7B-5D58-40BE-87AE-36360F0FADE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A155-CFC6-4EFD-AF70-556AF101F5D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DC30-6A86-42CE-92F0-5C00728D878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E6FB-1F9C-493D-859D-DD6BD2D0900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0542-B477-4EB8-8B3B-04065F7DE03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18BD-1F2F-4F76-B83F-3476C42434D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6EB6-37E6-47AC-B761-4805C32A641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D3F0-5775-4A36-986E-CEE5B67A5EB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401D-E67F-42BD-948D-43B4431F713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23CB-CCE6-42CF-A17E-8894018C06DC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7488-171C-41EA-897F-3E3D9A5CBD9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3779640" y="4941720"/>
            <a:ext cx="457812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НЕЧИТАЙЛО И.Н., ПРОНЕР М.А. УЧИТЕЛЯ НАЧАЛЬНЫХ КЛАССОВ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1402920" y="2205000"/>
            <a:ext cx="705492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аспродажи, скидки. </a:t>
            </a:r>
            <a:br>
              <a:rPr sz="4200"/>
            </a:b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ешение задач.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Рисунок 4" descr="скидки.jpg"/>
          <p:cNvPicPr/>
          <p:nvPr/>
        </p:nvPicPr>
        <p:blipFill>
          <a:blip r:embed="rId1"/>
          <a:stretch/>
        </p:blipFill>
        <p:spPr>
          <a:xfrm>
            <a:off x="539640" y="476280"/>
            <a:ext cx="309564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395280" y="549360"/>
          <a:ext cx="8353440" cy="547200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400"/>
                <a:gridCol w="1670040"/>
                <a:gridCol w="1671480"/>
              </a:tblGrid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ы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 39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3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4 5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ез скид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в руб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не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19T12:14:11Z</dcterms:created>
  <dc:creator>Дом</dc:creator>
  <dc:description/>
  <dc:language>en-US</dc:language>
  <cp:lastModifiedBy>User</cp:lastModifiedBy>
  <dcterms:modified xsi:type="dcterms:W3CDTF">2023-02-21T12:12:38Z</dcterms:modified>
  <cp:revision>19</cp:revision>
  <dc:subject/>
  <dc:title>Распродажи, скидки.  Решение задач.</dc:title>
</cp:coreProperties>
</file>