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786-8D59-45A0-8034-0C85320C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339-71E3-4DD0-A2A7-49593254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3CA41-3BE4-48F2-A6FF-9F6225C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6603D-6CE4-485D-9B36-7F1B6A10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9DE05-88E9-4A6E-B602-67AFBE3B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93356-E266-47DC-8832-274EB31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B79D8-8F69-44E1-A883-4A8E50B7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C081A-0CFE-46BE-B562-DFB733B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33F6B-6D46-4476-9808-6AAEDA00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8AA8D-F2EB-41BC-A2F6-24D8B95D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F612E-F686-4750-94A1-2A51F209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1AA91-6EB7-4ACC-B999-B93CFFCB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621-D916-4438-B7B9-2AA78310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32E7F-488C-4E85-889D-2E07174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2411A-5818-44E3-887F-B2CA85E4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FE10E-517F-4C20-B88A-E300BDC8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FD57A-15F3-4C0A-B3DC-64C46308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6E1F7-501F-4749-BC48-8C6232A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8D7DF-5F03-424C-AB9E-AD64CAD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E0575-9A47-46CF-BE5B-0BECCB29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2C909-99B3-4965-9814-8501472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86633-5056-4862-88D6-77F78A42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51E1A-C4C1-4AFF-A321-BBD72226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1A2-BE6D-40C9-9826-514A4AB5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C5215-F390-40D8-A7D5-F7598F85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FA887-591D-4837-A6DE-B1A9D5DF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D0F65-8E9C-4F40-A951-D590E9BC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BEDA2-4BCE-4FFF-9818-29569A33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75FF0-3921-4229-9C38-310DC80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AF08C-DDC6-444F-916F-A9DD2896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9C33F-95FD-402B-ACAD-352F4441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8B1EB-0E7E-4FFA-ABD9-0CB935B7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5961-9516-4CAD-A727-38905E6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420D1-2778-4C44-A353-BAE9E2C6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0F2D-1B67-40C5-84CD-D7DEEC13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82651-06C7-427F-8D00-31F8EA67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F1420-580C-4CCC-84D0-E81E7EDD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76696-B929-4A74-8585-0511D474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54C2C-9257-4F27-B1F5-1F3902C1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42870-3981-4C1F-AFE7-2BD379C1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59F17-3864-4EF0-8CC9-82437839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05B92-6D85-4D61-9CF8-9EE04D14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1FFE2-2CCF-48E7-97D6-DEB73498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374B1-563F-450F-831E-8238E93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06A27-902A-42FA-8794-736A6C31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DDBC-DFDA-46E9-994D-C963881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3F728-236A-4DFD-967D-EB406AA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E4BA9-DD88-41FB-BA3D-F194494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21C66-01F0-4952-BBA3-79F283D9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97E13-336D-425B-AC6C-5F9647FF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20FA4-E9CE-4C96-9ED6-E49654F0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7445-ABA2-41CE-BD3A-2E1D889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45F8-432D-47A1-86F2-43B6CF4B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E6C4-429B-4FB1-ADAD-21F24FF5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6D6E-93AE-4E95-9506-F61F95DC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5D50-7C3E-40F1-877F-CB01503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7E6-827E-4084-932C-DE84DF75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A36-B06D-491B-8DD8-AB055E8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F4BE-1BBE-494C-A7C1-1A342DD8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6CE5-7B80-4141-8255-432D481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5896-5AB6-43A0-B957-CB9F6119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B53-4E39-4422-903C-289BDB94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4EF3-60CA-4A0E-A9E8-BD4DA5F1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1B3D-C383-41CA-B8A3-8943D6C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15F42-E388-4B15-8376-C7E5DA55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7C829-D442-4536-A2DC-6B010E54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979E-985C-42CB-8AF1-B6CAB350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95B-7017-4A58-8084-D65459FB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B603-55EA-4F57-BF4F-3D1CAE3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27A0-48E0-4682-BD00-573DA83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AD60-7D07-4AA2-B3B9-B38D036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FDE4-9211-4C4D-845C-E1083A8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4A54-5F03-4266-AFA0-CE81157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E6E0-1562-4E35-84BA-2B4FCBC7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23B4-C90B-48C9-9494-717189AB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1C70-40E9-411E-88BF-779BF209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B5C2-DE20-4FC8-B840-6C95853D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FF7FF-D121-4A8C-81BD-F8AC1A19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2A9-2B5F-460B-8FA7-9A728896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AF35-2640-4B73-B7C0-1F29B302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2D68-8F2B-4909-8D63-BC6E290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0D2B-5FD7-426D-B527-46D6AE1F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BE7BD-C89D-4FB1-942A-651BA56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ABD8E-46E3-4726-BC2B-EC33FE4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9DA14-72D2-4DA3-8591-E8CCA022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45A5-B3A9-4702-B8A1-C7CB5950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1704-D24C-4BDD-A589-31BFFD5E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D71E5-B8AA-4345-B3F6-17265B58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3102C-012E-4EA1-A2BE-2A2FE4BF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058-AB84-4F9E-A949-492C0D55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187E-8A0B-4C90-9C89-7BBF7BD4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3BC5-9298-49E9-9F31-051F133A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7B902-A747-401B-B8ED-4FF058DE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C694-7095-4657-A1CC-775A905C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1E78-CD8D-4823-9C9A-FB8D49BD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8C82B-A469-4C68-9353-6A91D6C1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2101E-F997-4E3B-95D4-097E083E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EBF7-2A62-4DA2-93FE-32B48BEA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BD22-5F39-40E6-BE35-F7FB4707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DA6D-D6BB-4557-B94E-059E75E9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F77-5522-43AB-B077-5FEFEA38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A20A-7DC6-4689-A45C-C0BF8DEC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2D8AE-0BB5-4CD9-99CB-44A7175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1C584-97AA-4757-85B7-A128D6B9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2E9F-5119-46DC-A62B-F25D9325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01B08-610D-4B9B-967A-A2C8952E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41F8-FF76-458F-9908-3CDC756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F926-5296-40B3-AAA9-B0E29EC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91063-01EA-4B82-B1A4-2EFCD2E5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D2A72-4CBF-4C19-8F83-92FCFA7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B8EC-9227-4CA6-BD81-D5351B8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C7F-8BBB-41B1-B4CE-C113E0B4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BBDEB-485B-44CE-858D-F4798AD8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2CF2-3627-4125-8A93-233BDB81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34DDD-EEE3-4921-9EF0-00707901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1CF26-90FD-4268-9313-E4B0B8D9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965E8-4B3D-4F64-9411-10F524B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71711-6784-4936-9380-185A25B8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E4A6B-5852-4AE3-A8CD-E2C9FBAE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13751-1A54-4F6F-90E5-5433B38C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BE0CC-E4A8-4700-AE6E-BDDD98A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7ED0C-19D5-4694-9065-21E025C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8E2-8987-4268-AE83-62F2EE8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30430-F37A-4BE4-B093-4B11286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B873-79A2-46D2-AC1A-1FF5F0A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F6F7B-B96B-40DF-9CF7-0EA06D4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FEDA-DC45-4845-83A4-49E99EB3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DAD4C-A8F0-4852-9F09-E6C70E32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76BF-B7AE-42B0-BEDB-FCDB2739C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C9DC5-5C3A-4531-8A95-71291A6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930F1-6A44-4CF7-8F5A-285063B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9953A-4608-4F5D-84D0-3EA7665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2DD20-15F3-4EAD-B940-DEF7E63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A35-1481-48E1-8652-52FE2333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241A2-41D9-477C-9FD8-FA6332AC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5AF6C-B777-42AD-8018-C305E4F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1C9B9-4479-4C0D-8A17-5D1C093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4F168-A955-4876-A40E-C66E5AA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D767-C49B-42D4-939B-0B2BF8BB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150C0-25A4-47D0-A4DA-B3340552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BEE1-00F1-48C8-8BD0-DFCC4C56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088A7-956A-4870-9CF4-901A12B5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93B46-531F-4C3B-BB31-65093A15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ADC46-925E-43C5-BD58-D88EFEE2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88C-ECE0-49D5-AA53-EF5700B55CC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063-1D93-4ACD-92CC-285BD6419DA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1476-33E9-4F0E-BAD2-4573B85A491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F505-E436-4A4F-9021-A16979DDCA6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64C4-4564-44E9-ADE8-AED23B372BE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ADA-D994-41DA-8BFF-A82D03BD387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ABD-FCB3-4FE4-892A-7BE361731D5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048-3607-4207-A27D-183431FFAB1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7FDE-30C8-4A79-BC80-42EBB4428C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7E5-E31A-4554-A2FF-259168C0B8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5DF-2C98-4778-8129-5ADCEC8D267A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4FE0-AC78-42C4-A488-256A6B06495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779640" y="4941720"/>
            <a:ext cx="457812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Georgia"/>
              </a:rPr>
              <a:t>НЕЧИТАЙЛО И.Н., ПРОНЕР М.А. УЧИТЕЛЯ НАЧАЛЬНЫХ КЛАСС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402920" y="2205000"/>
            <a:ext cx="70549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аспродажи, скидки. </a:t>
            </a:r>
            <a:br>
              <a:rPr sz="4200"/>
            </a:br>
            <a:r>
              <a:rPr b="1" lang="ru-RU" sz="4200" spc="-1" strike="noStrike">
                <a:solidFill>
                  <a:srgbClr val="002060"/>
                </a:solidFill>
                <a:latin typeface="Georgia"/>
              </a:rPr>
              <a:t>Решение задач.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скид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30956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395280" y="549360"/>
          <a:ext cx="8353440" cy="547200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0040"/>
                <a:gridCol w="1671480"/>
              </a:tblGrid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Магазин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ы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39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0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 500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з ски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идка в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3e3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ечная 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12:14:11Z</dcterms:created>
  <dc:creator>Дом</dc:creator>
  <dc:description/>
  <dc:language>en-US</dc:language>
  <cp:lastModifiedBy>User</cp:lastModifiedBy>
  <dcterms:modified xsi:type="dcterms:W3CDTF">2023-02-21T12:12:38Z</dcterms:modified>
  <cp:revision>19</cp:revision>
  <dc:subject/>
  <dc:title>Распродажи, скидки.  Решение задач.</dc:title>
</cp:coreProperties>
</file>