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A33-1AD5-4BE5-B9C9-45BD9D43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3FF-8611-4706-ABCD-8402357F5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FA54-9CFE-4958-850B-6D0BCB53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CC07-BEBB-4150-AD01-3CE6953F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E13-7D51-44F9-B0B9-74F03F60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3C8A-A0A3-4826-AB2D-55581567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D14-A79E-446E-8B09-7C05A84E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2925-2132-46B0-9AED-3305E5C0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6984-673D-42DE-95A5-0AB3F328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3E9-A314-4CEA-8A17-5ABC3D0D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CB3D-DB31-4612-9BD2-A07F3B50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D9C-267C-426C-A9E0-A2896CB8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71273-5535-4EA7-89CD-0F8D7D9DAD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87280" y="301680"/>
            <a:ext cx="7848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3280" y="1944720"/>
            <a:ext cx="3303720" cy="424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68720" y="619128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319640" y="2325600"/>
            <a:ext cx="5537160" cy="343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97164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879640" y="2476440"/>
            <a:ext cx="381636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16080" y="3828960"/>
          <a:ext cx="9575640" cy="3600720"/>
        </p:xfrm>
        <a:graphic>
          <a:graphicData uri="http://schemas.openxmlformats.org/drawingml/2006/table">
            <a:tbl>
              <a:tblPr/>
              <a:tblGrid>
                <a:gridCol w="4582800"/>
                <a:gridCol w="4992840"/>
              </a:tblGrid>
              <a:tr h="36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0360" y="115236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60360" y="4608360"/>
            <a:ext cx="381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6665760" y="468000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759280" y="1176480"/>
            <a:ext cx="402624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792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7280" y="5111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6000" y="5759280"/>
          <a:ext cx="9774000" cy="1727280"/>
        </p:xfrm>
        <a:graphic>
          <a:graphicData uri="http://schemas.openxmlformats.org/drawingml/2006/table">
            <a:tbl>
              <a:tblPr/>
              <a:tblGrid>
                <a:gridCol w="4865760"/>
                <a:gridCol w="4908240"/>
              </a:tblGrid>
              <a:tr h="195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696000" y="4608360"/>
            <a:ext cx="31989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2360" y="863640"/>
            <a:ext cx="402588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944720" y="1076400"/>
            <a:ext cx="1944720" cy="3027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rcRect l="0" t="9896" r="0" b="14843"/>
          <a:stretch/>
        </p:blipFill>
        <p:spPr>
          <a:xfrm>
            <a:off x="-25560" y="3618000"/>
            <a:ext cx="2602080" cy="167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385040" y="1871640"/>
            <a:ext cx="2478240" cy="2519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4319640" y="3745080"/>
            <a:ext cx="2376360" cy="158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03280" y="1305000"/>
            <a:ext cx="2232000" cy="2870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60360" y="460836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1280" y="5442120"/>
          <a:ext cx="9918720" cy="2046240"/>
        </p:xfrm>
        <a:graphic>
          <a:graphicData uri="http://schemas.openxmlformats.org/drawingml/2006/table">
            <a:tbl>
              <a:tblPr/>
              <a:tblGrid>
                <a:gridCol w="4937400"/>
                <a:gridCol w="4981320"/>
              </a:tblGrid>
              <a:tr h="20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построение изображений, на основе математического описания элементарных геометрических объектов,  таких как: точки, линии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6767640" y="4608360"/>
            <a:ext cx="31255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24360" y="4751280"/>
            <a:ext cx="1800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910120" y="1463760"/>
            <a:ext cx="40258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Arial"/>
              </a:rPr>
              <a:t>Компьютерная граф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31640" y="4248000"/>
            <a:ext cx="1511640" cy="1944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16000" y="5543640"/>
            <a:ext cx="381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стров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15800" y="6269040"/>
          <a:ext cx="9576000" cy="1182600"/>
        </p:xfrm>
        <a:graphic>
          <a:graphicData uri="http://schemas.openxmlformats.org/drawingml/2006/table">
            <a:tbl>
              <a:tblPr/>
              <a:tblGrid>
                <a:gridCol w="4767480"/>
                <a:gridCol w="4808520"/>
              </a:tblGrid>
              <a:tr h="12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тровое изображение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— изображение, представляющее собой сетку пикселей — цветных точек (обычно прямоугольных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кторная график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— способ представления  изображений, основанный на математическом описании элементарных геометрических объектов,  таких как: точки, лини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586480" y="5518080"/>
            <a:ext cx="32702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38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Векторна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96000" y="5616720"/>
            <a:ext cx="18000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243920" y="4343400"/>
            <a:ext cx="2836800" cy="1758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18:38:32Z</dcterms:created>
  <dc:creator/>
  <dc:description/>
  <dc:language>en-US</dc:language>
  <cp:lastModifiedBy/>
  <dcterms:modified xsi:type="dcterms:W3CDTF">2015-12-11T19:03:52Z</dcterms:modified>
  <cp:revision>14</cp:revision>
  <dc:subject/>
  <dc:title/>
</cp:coreProperties>
</file>